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4DB8-30E9-42B4-8671-039BFA9E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F0E9-8CBF-4235-BE10-8552285A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1CCC-E94F-4EF5-8B7F-A13EC0B7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3FA8-AEDD-4E99-B165-8DA9ECAC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F8D8-497F-4E45-AD94-850C6669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F6F-FC67-4AAF-BE5F-7BCAEF8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F4F8-5307-4873-9443-5754820E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051C-D945-49C5-8F1E-0EC70FE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3061-815E-4002-94AB-130E244D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CC0-E98F-4179-822A-2E2D4765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CAB1-5CFF-43C3-A9EE-EB54E2B0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90AD-AABE-4776-839E-22F5D8E6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A8C8-57E6-45CC-9F1B-EBDA0BD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FEBA-20E7-4D4D-8682-DF5CC9C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4001-6E7E-4FB9-A968-A55B81A2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51C7-3133-417E-9A76-49598705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B264-DA38-46C3-8800-5623B76E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4AD9-D308-4A00-90B8-0448CFE4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019A-7E42-42E7-9D95-B79AF42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D595-2479-4D83-B654-73A10146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DC9B-47C4-475A-93A3-5CF2A6E3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AD79-DEFF-4E1E-8CDC-995DF43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FE89-459D-4586-8FCC-97E4621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DF8B-31E8-4549-AD56-D6480A60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3753-8447-4505-AD05-6E55C510B2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EA37-1362-4D61-BD17-F6C0376364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4464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Arial"/>
              </a:rPr>
              <a:t>Исследование планеты Земл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2592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4360" y="1197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рхите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3573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Би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580000" y="1052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Природов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219640" y="364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Искусстов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arc0"/>
          <p:cNvPicPr/>
          <p:nvPr/>
        </p:nvPicPr>
        <p:blipFill>
          <a:blip r:embed="rId1"/>
          <a:stretch/>
        </p:blipFill>
        <p:spPr>
          <a:xfrm>
            <a:off x="3132000" y="476280"/>
            <a:ext cx="1863720" cy="2104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82" name="Picture 8" descr="uwd_ru_36"/>
          <p:cNvPicPr/>
          <p:nvPr/>
        </p:nvPicPr>
        <p:blipFill>
          <a:blip r:embed="rId2"/>
          <a:stretch/>
        </p:blipFill>
        <p:spPr>
          <a:xfrm>
            <a:off x="1835280" y="2924280"/>
            <a:ext cx="2305080" cy="1987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570400" cy="1982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5796000" y="1484280"/>
            <a:ext cx="20574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6"/>
          <p:cNvGrpSpPr/>
          <p:nvPr/>
        </p:nvGrpSpPr>
        <p:grpSpPr>
          <a:xfrm>
            <a:off x="6588000" y="3141720"/>
            <a:ext cx="2303640" cy="1366920"/>
            <a:chOff x="6588000" y="3141720"/>
            <a:chExt cx="2303640" cy="1366920"/>
          </a:xfrm>
        </p:grpSpPr>
        <p:sp>
          <p:nvSpPr>
            <p:cNvPr id="109" name="Oval 17"/>
            <p:cNvSpPr/>
            <p:nvPr/>
          </p:nvSpPr>
          <p:spPr>
            <a:xfrm>
              <a:off x="6588000" y="3141720"/>
              <a:ext cx="2303640" cy="1366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6804000" y="350028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воро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5"/>
          <p:cNvGrpSpPr/>
          <p:nvPr/>
        </p:nvGrpSpPr>
        <p:grpSpPr>
          <a:xfrm>
            <a:off x="2916360" y="1052640"/>
            <a:ext cx="2950920" cy="1655640"/>
            <a:chOff x="2916360" y="1052640"/>
            <a:chExt cx="2950920" cy="1655640"/>
          </a:xfrm>
        </p:grpSpPr>
        <p:sp>
          <p:nvSpPr>
            <p:cNvPr id="112" name="Oval 4"/>
            <p:cNvSpPr/>
            <p:nvPr/>
          </p:nvSpPr>
          <p:spPr>
            <a:xfrm>
              <a:off x="2916360" y="1052640"/>
              <a:ext cx="2950920" cy="165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3348000" y="134136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"/>
                </a:rPr>
                <a:t>Виды движ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8"/>
          <p:cNvGrpSpPr/>
          <p:nvPr/>
        </p:nvGrpSpPr>
        <p:grpSpPr>
          <a:xfrm>
            <a:off x="324000" y="3284640"/>
            <a:ext cx="2303280" cy="1366560"/>
            <a:chOff x="324000" y="3284640"/>
            <a:chExt cx="2303280" cy="1366560"/>
          </a:xfrm>
        </p:grpSpPr>
        <p:sp>
          <p:nvSpPr>
            <p:cNvPr id="115" name="Oval 6"/>
            <p:cNvSpPr/>
            <p:nvPr/>
          </p:nvSpPr>
          <p:spPr>
            <a:xfrm>
              <a:off x="324000" y="3284640"/>
              <a:ext cx="2303280" cy="1366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39640" y="3642840"/>
              <a:ext cx="187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нтральная симметр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2340000" y="4437000"/>
            <a:ext cx="2303280" cy="1366920"/>
            <a:chOff x="2340000" y="4437000"/>
            <a:chExt cx="2303280" cy="1366920"/>
          </a:xfrm>
        </p:grpSpPr>
        <p:sp>
          <p:nvSpPr>
            <p:cNvPr id="118" name="Oval 10"/>
            <p:cNvSpPr/>
            <p:nvPr/>
          </p:nvSpPr>
          <p:spPr>
            <a:xfrm>
              <a:off x="2340000" y="4437000"/>
              <a:ext cx="2303280" cy="1366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555640" y="4795560"/>
              <a:ext cx="187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евая симметр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4788000" y="4437000"/>
            <a:ext cx="2303280" cy="1366560"/>
            <a:chOff x="4788000" y="4437000"/>
            <a:chExt cx="2303280" cy="1366560"/>
          </a:xfrm>
        </p:grpSpPr>
        <p:sp>
          <p:nvSpPr>
            <p:cNvPr id="121" name="Oval 13"/>
            <p:cNvSpPr/>
            <p:nvPr/>
          </p:nvSpPr>
          <p:spPr>
            <a:xfrm>
              <a:off x="4788000" y="4437000"/>
              <a:ext cx="2303280" cy="1366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4932000" y="4722480"/>
              <a:ext cx="201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араллельный перенос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H="1">
            <a:off x="1979280" y="2276640"/>
            <a:ext cx="1079640" cy="10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>
            <a:off x="3492000" y="2637000"/>
            <a:ext cx="358920" cy="18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003640" y="2637000"/>
            <a:ext cx="505080" cy="18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5796000" y="2133720"/>
            <a:ext cx="1297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316320" cy="418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316320" cy="4187520"/>
          </a:xfrm>
          <a:prstGeom prst="rect">
            <a:avLst/>
          </a:prstGeom>
          <a:ln w="0">
            <a:noFill/>
          </a:ln>
        </p:spPr>
      </p:pic>
      <p:sp>
        <p:nvSpPr>
          <p:cNvPr id="130" name="Line 8"/>
          <p:cNvSpPr/>
          <p:nvPr/>
        </p:nvSpPr>
        <p:spPr>
          <a:xfrm>
            <a:off x="2771640" y="3860640"/>
            <a:ext cx="453708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3059280" y="5300640"/>
            <a:ext cx="453708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2340000" y="2565360"/>
            <a:ext cx="453708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700360" y="602136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84360" y="5734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в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a62"/>
          <p:cNvPicPr/>
          <p:nvPr/>
        </p:nvPicPr>
        <p:blipFill>
          <a:blip r:embed="rId1"/>
          <a:stretch/>
        </p:blipFill>
        <p:spPr>
          <a:xfrm>
            <a:off x="2268360" y="1773360"/>
            <a:ext cx="1895760" cy="220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a62"/>
          <p:cNvPicPr/>
          <p:nvPr/>
        </p:nvPicPr>
        <p:blipFill>
          <a:blip r:embed="rId2"/>
          <a:stretch/>
        </p:blipFill>
        <p:spPr>
          <a:xfrm>
            <a:off x="5076720" y="3068640"/>
            <a:ext cx="2210040" cy="1895400"/>
          </a:xfrm>
          <a:prstGeom prst="rect">
            <a:avLst/>
          </a:prstGeom>
          <a:ln w="0">
            <a:noFill/>
          </a:ln>
        </p:spPr>
      </p:pic>
      <p:sp>
        <p:nvSpPr>
          <p:cNvPr id="138" name="Line 12"/>
          <p:cNvSpPr/>
          <p:nvPr/>
        </p:nvSpPr>
        <p:spPr>
          <a:xfrm>
            <a:off x="4067280" y="4869000"/>
            <a:ext cx="216036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4067280" y="2852640"/>
            <a:ext cx="0" cy="201636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4067280" y="4221000"/>
            <a:ext cx="1225440" cy="64800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419640" y="3789360"/>
            <a:ext cx="647640" cy="107964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a20"/>
          <p:cNvPicPr/>
          <p:nvPr/>
        </p:nvPicPr>
        <p:blipFill>
          <a:blip r:embed="rId1"/>
          <a:stretch/>
        </p:blipFill>
        <p:spPr>
          <a:xfrm>
            <a:off x="1258920" y="2276640"/>
            <a:ext cx="2141640" cy="24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a20"/>
          <p:cNvPicPr/>
          <p:nvPr/>
        </p:nvPicPr>
        <p:blipFill>
          <a:blip r:embed="rId2"/>
          <a:stretch/>
        </p:blipFill>
        <p:spPr>
          <a:xfrm>
            <a:off x="5219640" y="2276640"/>
            <a:ext cx="2089080" cy="2447640"/>
          </a:xfrm>
          <a:prstGeom prst="rect">
            <a:avLst/>
          </a:prstGeom>
          <a:ln w="0">
            <a:noFill/>
          </a:ln>
        </p:spPr>
      </p:pic>
      <p:sp>
        <p:nvSpPr>
          <p:cNvPr id="145" name="Line 11"/>
          <p:cNvSpPr/>
          <p:nvPr/>
        </p:nvSpPr>
        <p:spPr>
          <a:xfrm>
            <a:off x="4284720" y="1844640"/>
            <a:ext cx="0" cy="381636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3348000" y="4724280"/>
            <a:ext cx="194472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2484360" y="3068640"/>
            <a:ext cx="360036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1403280" y="4221000"/>
            <a:ext cx="568980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116000" y="5877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имметрия относительно прямой – осевая симме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1449360" y="1291320"/>
            <a:ext cx="6523920" cy="4718880"/>
            <a:chOff x="1449360" y="1291320"/>
            <a:chExt cx="6523920" cy="4718880"/>
          </a:xfrm>
        </p:grpSpPr>
        <p:pic>
          <p:nvPicPr>
            <p:cNvPr id="152" name="Picture 10" descr=""/>
            <p:cNvPicPr/>
            <p:nvPr/>
          </p:nvPicPr>
          <p:blipFill>
            <a:blip r:embed="rId1"/>
            <a:stretch/>
          </p:blipFill>
          <p:spPr>
            <a:xfrm rot="20040600">
              <a:off x="1692360" y="1773000"/>
              <a:ext cx="2592360" cy="17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"/>
            <p:cNvPicPr/>
            <p:nvPr/>
          </p:nvPicPr>
          <p:blipFill>
            <a:blip r:embed="rId2"/>
            <a:stretch/>
          </p:blipFill>
          <p:spPr>
            <a:xfrm rot="8209800">
              <a:off x="5147280" y="3646080"/>
              <a:ext cx="259236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Line 12"/>
            <p:cNvSpPr/>
            <p:nvPr/>
          </p:nvSpPr>
          <p:spPr>
            <a:xfrm>
              <a:off x="3348000" y="3214800"/>
              <a:ext cx="2520360" cy="7920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3"/>
            <p:cNvSpPr/>
            <p:nvPr/>
          </p:nvSpPr>
          <p:spPr>
            <a:xfrm>
              <a:off x="4213080" y="2925720"/>
              <a:ext cx="934560" cy="165564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 flipV="1">
              <a:off x="2844720" y="3573000"/>
              <a:ext cx="3455640" cy="7308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684360" y="573408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имметрия относительно точки – центральная симме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4000" y="836640"/>
            <a:ext cx="48956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"...быть прекрасным значит быть симметричным и соразмерным"                       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латон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(древнегреческий философ,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28 – 348 г.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364000" y="836640"/>
            <a:ext cx="342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79280" y="981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Симметрия – это красиво или однообра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2376720" cy="237024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0"/>
          <p:cNvGrpSpPr/>
          <p:nvPr/>
        </p:nvGrpSpPr>
        <p:grpSpPr>
          <a:xfrm>
            <a:off x="219600" y="2027880"/>
            <a:ext cx="1699200" cy="2264760"/>
            <a:chOff x="219600" y="2027880"/>
            <a:chExt cx="1699200" cy="2264760"/>
          </a:xfrm>
        </p:grpSpPr>
        <p:grpSp>
          <p:nvGrpSpPr>
            <p:cNvPr id="163" name="Group 10"/>
            <p:cNvGrpSpPr/>
            <p:nvPr/>
          </p:nvGrpSpPr>
          <p:grpSpPr>
            <a:xfrm>
              <a:off x="219600" y="2027880"/>
              <a:ext cx="1699200" cy="2264760"/>
              <a:chOff x="219600" y="2027880"/>
              <a:chExt cx="1699200" cy="2264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468360" y="2853000"/>
                <a:ext cx="1152360" cy="1439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9"/>
              <p:cNvSpPr/>
              <p:nvPr/>
            </p:nvSpPr>
            <p:spPr>
              <a:xfrm rot="8160600">
                <a:off x="468360" y="2276640"/>
                <a:ext cx="1201680" cy="1201680"/>
              </a:xfrm>
              <a:prstGeom prst="rtTriangle">
                <a:avLst/>
              </a:prstGeom>
              <a:solidFill>
                <a:srgbClr val="05791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6"/>
            <p:cNvSpPr/>
            <p:nvPr/>
          </p:nvSpPr>
          <p:spPr>
            <a:xfrm>
              <a:off x="755640" y="3211560"/>
              <a:ext cx="576360" cy="64908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1044720" y="321156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75564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21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2286000" cy="3025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2"/>
          <p:cNvSpPr/>
          <p:nvPr/>
        </p:nvSpPr>
        <p:spPr>
          <a:xfrm>
            <a:off x="4067280" y="1989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971640" y="765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В каких отраслях жизни встречается явление симметр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MIN_0009"/>
          <p:cNvPicPr/>
          <p:nvPr/>
        </p:nvPicPr>
        <p:blipFill>
          <a:blip r:embed="rId1"/>
          <a:stretch/>
        </p:blipFill>
        <p:spPr>
          <a:xfrm>
            <a:off x="1042920" y="4437000"/>
            <a:ext cx="3168720" cy="2065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iffel"/>
          <p:cNvPicPr/>
          <p:nvPr/>
        </p:nvPicPr>
        <p:blipFill>
          <a:blip r:embed="rId2"/>
          <a:stretch/>
        </p:blipFill>
        <p:spPr>
          <a:xfrm>
            <a:off x="6926400" y="1341360"/>
            <a:ext cx="177300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0098"/>
          <p:cNvPicPr/>
          <p:nvPr/>
        </p:nvPicPr>
        <p:blipFill>
          <a:blip r:embed="rId3"/>
          <a:stretch/>
        </p:blipFill>
        <p:spPr>
          <a:xfrm>
            <a:off x="4932360" y="4149720"/>
            <a:ext cx="3024360" cy="240660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3348000" y="1916280"/>
            <a:ext cx="3529080" cy="221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432010"/>
          <p:cNvPicPr/>
          <p:nvPr/>
        </p:nvPicPr>
        <p:blipFill>
          <a:blip r:embed="rId5"/>
          <a:stretch/>
        </p:blipFill>
        <p:spPr>
          <a:xfrm>
            <a:off x="324000" y="2060640"/>
            <a:ext cx="3058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56:47Z</dcterms:created>
  <dc:creator>Александр</dc:creator>
  <dc:description/>
  <dc:language>en-US</dc:language>
  <cp:lastModifiedBy>26002</cp:lastModifiedBy>
  <dcterms:modified xsi:type="dcterms:W3CDTF">2010-05-31T12:14:25Z</dcterms:modified>
  <cp:revision>2</cp:revision>
  <dc:subject/>
  <dc:title>Исследование планеты Земля</dc:title>
</cp:coreProperties>
</file>